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LASER.WAV" ContentType="audio/x-wav"/>
  <Override PartName="/ppt/media/CAMERA.WAV" ContentType="audio/x-wav"/>
  <Override PartName="/ppt/media/TYPE.WAV" ContentType="audio/x-wav"/>
  <Override PartName="/ppt/media/image7.wmf" ContentType="image/x-wmf"/>
  <Override PartName="/ppt/media/image5.jpeg" ContentType="image/jpeg"/>
  <Override PartName="/ppt/media/image6.wmf" ContentType="image/x-wmf"/>
  <Override PartName="/ppt/media/CARBRAK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C1C7-F5B5-4B0F-8EE3-EC3CA75C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E6F8-72D3-46A7-8840-513AAE31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82C-CF79-4F24-AB70-51479255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451-A766-4D13-938C-C081C44E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BA24B-3430-4201-8351-F34C90F66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545B-36C6-4DAB-AB43-1A37F442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813D-B33F-4C2A-B1D5-906AA841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E4E53-8553-4D30-A4F2-AAE690B9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746D-A571-497F-A817-D579B800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70FC-64AB-4BA1-984E-CD82E618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2825-0D35-42E2-AC13-FF499710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F979-A214-48FC-8F8E-361D213C9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A0FA-2BA4-4DDA-A28A-C6462AC4A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E130-58DF-41D6-8ABB-8F1FB12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F5D1-2B25-4565-B183-1D56A0631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5F5E-F3F4-4298-9A01-527CF82B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0306-5C71-4D1B-AAEA-FB91B2C5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DD17-80C9-4E5A-9ACA-EAC396A6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28B-E213-4CAF-A506-DAF8EEF63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9C62-2150-4438-B4E0-89888147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6CD4-89E0-438F-AEF4-4458B885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E793-6390-43B3-9901-87A72B74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2143-A383-4505-9C7A-B28788A4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69C-4B4D-4FD1-B69B-FE0077FC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31F-7BEB-40D6-8384-2F6A23CB32D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AC1-DE42-4B2D-B8EE-3CFEB22275A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71468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indent="452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NI-Times"/>
              </a:rPr>
              <a:t>Kieåm soaùt coù hieäu quaû laø vieäc khoù - Ñoøi hoûi luùc ngöôøi quaûn lyù gaëp tình huoáng khoù khaên - Kieåm soaùt laø nhieäm vuï cuûa ngöôøi quaûn lyù - Ngöôøi quaûn lyù phaûi haønh ñoäng moïi ñieàu ñeå ñaït ñöôïc muïc tieâu cuûa toå chöù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29040" y="3124080"/>
            <a:ext cx="3047760" cy="2922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VNI-Bodon-Poster"/>
              </a:rPr>
              <a:t>KIEÅM SOAÙT LAØ GÌ?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468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ff99"/>
                </a:solidFill>
                <a:uFillTx/>
                <a:latin typeface="VNI-Bodon"/>
              </a:rPr>
              <a:t>CAÙC COÂNG CUÏ KIEÅM SOAÙT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542600"/>
            <a:ext cx="44002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1. TRONG QUAÙ TRÌNH LÖÏA CHOÏ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Khaû naêng ñaùp öùng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Xem xeùt tính hieäu qua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Ñôn giaûn, thöïc teá, deã daøng, hôïp lyù, an toaø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Chuaåân xaùc ca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3504960" cy="154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200400" cy="1473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0" y="384804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2. TRONG QUAÙ TRÌNH SÖÛ DUÏNG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Tính hieäu quaû, möùc ñoä phuø hôïp, khaû naêng ñaùp öùng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Neân kyû löôõng vaø haøi hoø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Thôøi gian hôïp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Deã d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Ñaûm baûo ñoä an toaø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4480" y="1123920"/>
            <a:ext cx="8496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söï vi phaïm caùc nguyeân taéc vaø caùc qui ñò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âng vieäc bò boû beâ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Xaûy ra tai naïn, thieân ta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Gaây laõng phí, giaûm hieäu quaû, khoâng oån ñònh, khoâng hôïp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oâng duy trì caùc yeáu toá: an toaøn, ñuùng ñaén, nhanh choùng trong toå chöù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57200"/>
            <a:ext cx="8153280" cy="5335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318960">
              <a:lnSpc>
                <a:spcPct val="100000"/>
              </a:lnSpc>
              <a:spcBef>
                <a:spcPts val="624"/>
              </a:spcBef>
              <a:buClr>
                <a:srgbClr val="cc0099"/>
              </a:buClr>
              <a:buFont typeface="VNI-Bod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cc0099"/>
                </a:solidFill>
                <a:uFillTx/>
                <a:latin typeface="VNI-Bodon"/>
              </a:rPr>
              <a:t>1. THIEÁU KIEÅM SOAÙT DAÃN ÑEÁN HIEÄN TÖÔÏNG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4876560" cy="2570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848360" cy="45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0099"/>
                </a:solidFill>
                <a:latin typeface="VNI-Bodon"/>
              </a:rPr>
              <a:t>2.KIEÅM SOAÙT THAÙI QUAÙ DAÃN ÑEÁN HIEÄN TÖÔÏNG</a:t>
            </a:r>
            <a:endParaRPr b="0" lang="en-US" sz="2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1800" y="2590560"/>
            <a:ext cx="542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ieáu naïi taêng leân, nhaân vieân caáp döôùi laøm vieäc keùm nhieät tình, thieáu quan taâm ñeán vieäc laøm haøi loøng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coù thaùi ñoä choáng ñoái, thuø ñòch vôùi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Xaûy ra nhieàu loãi, nhieàu vaán ñeà phaùt si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caáp döôùi quaù phuï thuoäc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Vieäc baøn baïc thaûo luaän chæ xoay quanh taäp trung beà noåi vaán ñeà chöù khoâng phaûi baûn chaát cuûa söï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867280" y="3200400"/>
          <a:ext cx="2679840" cy="28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200400"/>
                    <a:ext cx="26798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ieáu tính ñoäc laäp vaø chuû ñoäng cuûa nhaân vi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Moâi tröôøng laøm vieäc trôû neân teû nhaït - “Mang tính hai maët”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laøm vieäc qua loa, chieáu leä, lo ñoái pho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933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buClr>
                <a:srgbClr val="ffffcc"/>
              </a:buClr>
              <a:buFont typeface="VNI-Bod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cc"/>
                </a:solidFill>
                <a:latin typeface="VNI-Bodon"/>
              </a:rPr>
              <a:t>NGÖÔØI QUAÛN LYÙ - PHAÛI TÖÏ KIEÅM SOAÙT MÌNH ÑANG THIEÁU KIEÅM SOAÙT HAY KIEÅM SOAÙT THAÙI QUAÙ ÑEÅ ÑIEÀU CHÆNH !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2057400"/>
            <a:ext cx="5334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cc"/>
                </a:solidFill>
                <a:latin typeface="VNI-Bodon-Poster"/>
              </a:rPr>
              <a:t>Vieäc töï kieåm soaùt cuûa nhaân vieân caáp döôùi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cc"/>
                </a:solidFill>
                <a:latin typeface="VNI-Bodon-Poster"/>
              </a:rPr>
              <a:t>(P149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8:13:53Z</dcterms:created>
  <dc:creator>Det Thai Tuan</dc:creator>
  <dc:description/>
  <dc:language>en-US</dc:language>
  <cp:lastModifiedBy>User</cp:lastModifiedBy>
  <cp:lastPrinted>2003-10-03T08:40:36Z</cp:lastPrinted>
  <dcterms:modified xsi:type="dcterms:W3CDTF">2005-01-26T08:26:21Z</dcterms:modified>
  <cp:revision>22</cp:revision>
  <dc:subject/>
  <dc:title>KIEÅM SOAÙT LAØ GÌ?</dc:title>
</cp:coreProperties>
</file>