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CAMERA.WAV" ContentType="audio/x-wav"/>
  <Override PartName="/ppt/media/LASER.WAV" ContentType="audio/x-wav"/>
  <Override PartName="/ppt/media/WHOOSH.WAV" ContentType="audio/x-wav"/>
  <Override PartName="/ppt/media/CARBRAKE.WAV" ContentType="audio/x-wav"/>
  <Override PartName="/ppt/media/image9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513-6F58-499E-B0C9-AC9FFE0B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7BE7-BF71-4057-80CA-74B87123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A230-0346-4747-A9AC-320DC479C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E90-0438-482D-814C-131C8870C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7C90F-7294-4CBF-A255-940F541D7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3494-ED03-4AF4-9003-DE318951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6524-CFE1-43D2-B81D-60C8FA98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AA49-A384-46D3-B95B-D539700D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DE61-672C-4EBE-841B-4D2283DB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62819-9F37-4627-8741-0BC940E9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87B3C-5A0A-4BC5-901A-69FF0A60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C45-16F6-4ECF-9B9B-D038663E3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F26F-2526-4036-9564-65812B93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C880-5608-4B1D-89F2-5CAC399D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EB7C-CC70-4966-8CAC-40AE3FEC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BA8C-1C0B-45DC-8F9C-DB7221764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8C49-5418-4204-92BE-0C5ACA6D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02B1-2A6D-44D1-BB5C-BB541C68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A7A-78C1-46A8-ADF7-3B8A83909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965F-EB8E-4921-8952-9B44DDF7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206-6A04-4447-99E7-27B608BB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364F-F201-4F90-B9E6-D7E26B1C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B6D0-E87C-430D-A987-D4E2C350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C91A-A785-4BE5-A9F9-7FA785B6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6221-C2F3-4F65-BCD1-6C2E1896129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E4391-16CA-4A10-B842-6C50A21164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RBRAKE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33120"/>
            <a:ext cx="4343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ff6699"/>
                </a:solidFill>
                <a:uFillTx/>
                <a:latin typeface="VNI-Bodon"/>
              </a:rPr>
              <a:t>LAÄP KEÁ HOAÏCH LAØ:</a:t>
            </a:r>
            <a:endParaRPr b="0" i="1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2400480"/>
            <a:ext cx="464796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Toång hôïp naêng löïc, döï ñoaùn tình hình trong töông lai, ñöa ra phöông phaùp giaûi quyeát theo trình töï coâng vieäc nhaèm ñaït muïc tieâu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Töông lai cuûa toå chöùc naèm trong vieäc laäp keá hoaïc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Taïo khaû naêng saùng taï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29200" y="3102120"/>
            <a:ext cx="342900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ffcc66"/>
                </a:solidFill>
                <a:uFillTx/>
                <a:latin typeface="VNI-Bodon"/>
              </a:rPr>
              <a:t>CAÙC DAÏNG KEÁ HOAÏCH:</a:t>
            </a:r>
            <a:endParaRPr b="0" i="1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360" y="2324160"/>
            <a:ext cx="4952880" cy="20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1.</a:t>
            </a:r>
            <a:r>
              <a:rPr b="0" lang="en-US" sz="2000" spc="-1" strike="noStrike">
                <a:solidFill>
                  <a:srgbClr val="ffcc66"/>
                </a:solidFill>
                <a:latin typeface="VNI-Times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Keá hoaïch ngaén, trung, daøi haï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2.  Keá hoaïch phoøng ban, keá hoaïch toång hôïp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VNI-Times"/>
              </a:rPr>
              <a:t>3. Keá hoaïch vaät löôïng, keá hoaïch giaù caû.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4. Keá hoaïch caáu taï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60964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1440" y="8949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9933ff"/>
                </a:solidFill>
                <a:uFillTx/>
                <a:latin typeface="VNI-Bodon"/>
              </a:rPr>
              <a:t>NHÖÕNG ÑIEÅM LÖU YÙ KHI LAÄP KEÁ HOAÏCH:</a:t>
            </a:r>
            <a:endParaRPr b="0" i="1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2171880"/>
            <a:ext cx="7238880" cy="33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63960" indent="-36396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AutoNum type="arabicPeriod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Söï cöông quyeát vaø muïc tieâu cuûa laûnh ñaïo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960" indent="-36396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AutoNum type="arabicPeriod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Ñaõ moät laàn naøo löïa choïn muïc tieâu keá hoaïch khoâng hoaøn thaønh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960" indent="-36396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AutoNum type="arabicPeriod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Söï hôïp taùc cuûa nhöõng ngöôøi lieân quan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960" indent="-36396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AutoNum type="arabicPeriod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Traùch nhieäm phaân coâng, ñieàu kieän hoaït ñoäng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960" indent="-36396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AutoNum type="arabicPeriod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Thoâng tin phaûn hoài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960" indent="-36396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AutoNum type="arabicPeriod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Quaù töï tin hay trì treä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960" indent="-36396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AutoNum type="arabicPeriod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Laïc quan hay naûn chí? Ñaùnh giaù ñoái thuû caïnh tran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960" indent="-36396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AutoNum type="arabicPeriod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Phaân tích thoâng tin ñaày ñuû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960" indent="-36396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AutoNum type="arabicPeriod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Loãi chuû qua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934320" y="3581280"/>
          <a:ext cx="198108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3581280"/>
                    <a:ext cx="198108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85680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ff66ff"/>
                </a:solidFill>
                <a:uFillTx/>
                <a:latin typeface="VNI-Bodon"/>
              </a:rPr>
              <a:t>NHÖÕNG ÑIEÅM KIEÅM TRA KHI LAÄP KEÁ HOAÏCH:</a:t>
            </a:r>
            <a:endParaRPr b="0" i="1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6216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1. 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Ñònh ra muïc tieâu roõ raøng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2. 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Thu thaäp döõ lieäu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3. 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Suy nghó veà döõ lieäu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4. 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hoïn phöông phaùp thöïc hieä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5. 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Thöïc hieä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6. 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Theo doõi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638680" y="3200400"/>
            <a:ext cx="28879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9140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9966ff"/>
                </a:solidFill>
                <a:uFillTx/>
                <a:latin typeface="VNI-Bodon"/>
              </a:rPr>
              <a:t>CAÙC BÖÔÙC TIEÁN HAØNH KHI LAÄP KEÁ HOAÏCH:</a:t>
            </a:r>
            <a:endParaRPr b="0" i="1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62520" y="2409840"/>
          <a:ext cx="4647960" cy="39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409840"/>
                    <a:ext cx="464796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738440" y="4911840"/>
            <a:ext cx="36147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2000"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Ñònh ra muïc tieâu roõ raøng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4760" y="4292640"/>
            <a:ext cx="2732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3000"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2. </a:t>
            </a: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Naém baét thöïc teá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87800" y="3692520"/>
            <a:ext cx="2732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3. </a:t>
            </a: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Xem xeùt döõ lieäu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65520" y="3102120"/>
            <a:ext cx="307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4000"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4. </a:t>
            </a: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Laäp keá hoaïch sô boä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11640" y="2482920"/>
            <a:ext cx="32702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5. </a:t>
            </a: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Quyeát ñònh keá hoaïch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75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80520" y="1930320"/>
            <a:ext cx="571500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462960" indent="-462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Keá hoaïïch seõ chuaån xaùc hôn do ñöôïc kieåm tra töø nhieàu khía caïn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62960" indent="-462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ù theå taäp trung trí tueä cuûa nhieàu thaønh vieâ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62960" indent="-462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Baûn thaân keá hoaïch seõ cuï theå hô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62960" indent="-462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Keá hoaïch seõ chuaån xaùc hôn vaø traùnh ñöôïc söï phieán dieä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62960" indent="-462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Keá hoaïch seõ mang tính saùng taïo hô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62960" indent="-462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Taêng cöôøng chaát löôïng noäi dung keá hoaïc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62960" indent="-462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Muïc tieâu, chính saùch, phöông phaùp cuõng nhö tieán trình hoaøn thaønh keá hoaïch seõ roõ raøng hôn…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440" y="9140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6699"/>
                </a:solidFill>
                <a:latin typeface="VNI-Bodon"/>
              </a:rPr>
              <a:t>1. </a:t>
            </a:r>
            <a:r>
              <a:rPr b="1" i="1" lang="en-US" sz="2500" spc="-1" strike="noStrike" u="sng">
                <a:solidFill>
                  <a:srgbClr val="ff6699"/>
                </a:solidFill>
                <a:uFillTx/>
                <a:latin typeface="VNI-Bodon"/>
              </a:rPr>
              <a:t>ÑOÁI VÔÙI KEÁ HOAÏCH</a:t>
            </a:r>
            <a:endParaRPr b="0" i="1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5880" y="3733920"/>
          <a:ext cx="243864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3733920"/>
                    <a:ext cx="24386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48769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cccc"/>
                </a:solidFill>
                <a:latin typeface="VNI-Bodon"/>
              </a:rPr>
              <a:t>2. </a:t>
            </a:r>
            <a:r>
              <a:rPr b="1" i="1" lang="en-US" sz="2500" spc="-1" strike="noStrike" u="sng">
                <a:solidFill>
                  <a:srgbClr val="33cccc"/>
                </a:solidFill>
                <a:uFillTx/>
                <a:latin typeface="VNI-Bodon"/>
              </a:rPr>
              <a:t>ÑOÁI VÔÙI NHAØ QUAÛN LYÙ</a:t>
            </a:r>
            <a:endParaRPr b="0" i="1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23840"/>
            <a:ext cx="556272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374760" indent="-327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Ñoái thoaïi giöõa ngöôøi quaûn lyù vaø nhaân vieân caáp döôùi seõ deã daøng hôn, mang laïi moái quan heä tin caäy laãn nhau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74760" indent="-327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ù theå chia seõ ñöôïc muïc tieâu vaø tình huoáng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74760" indent="-327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Khoâng coù tình traïng eùp buoäc töø treân xuoáng döôùi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74760" indent="-327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Deã daøng coù ñöôïc söï hôïp taùc khi thöïc hieä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74760" indent="-327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ù theå naâng cao söï hieåu bieát, haøi loøng vaø quan taâm cuûa nhaân vieân caáp döôùi trong keá hoaïc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74760" indent="-327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ù theå phaùt trieån khaû naêng quaûn lyù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74760" indent="-327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Ngöôøi quaûn lyù coù theå söû duïng hieäu quaû thôøi gian cuûa mình…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629400" y="2819520"/>
          <a:ext cx="206388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2819520"/>
                    <a:ext cx="20638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828440"/>
            <a:ext cx="5676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ff00"/>
                </a:solidFill>
                <a:latin typeface="VNI-Bodon"/>
              </a:rPr>
              <a:t>3. </a:t>
            </a:r>
            <a:r>
              <a:rPr b="1" i="1" lang="en-US" sz="2500" spc="-1" strike="noStrike" u="sng">
                <a:solidFill>
                  <a:srgbClr val="00ff00"/>
                </a:solidFill>
                <a:uFillTx/>
                <a:latin typeface="VNI-Bodon"/>
              </a:rPr>
              <a:t>ÑOÁI VÔÙI NHAÂN VIEÂN CAÁP DÖÔÙI</a:t>
            </a:r>
            <a:endParaRPr b="0" i="1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1000" y="2819160"/>
            <a:ext cx="874404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ù theå taïo cho nhaân vieân caáp döôùi coù cuøng quan ñieåm vôùi nhaø quaûn lyù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ù theå hoaøn thaønh keá hoaïch nhö mong muoá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Töøng ngöôøi coù theå töï tieán haønh coâng vieäc maø khoâng caàn ñeán chæ daãn cuûa ngöôøi quaûn lyù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ù theå ñöôïc taëng thöôûng khi ñöa ra ñöôïc yù töôûng hay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Naâng cao tính ñoäc laäp vaø töï nguyeän ñoái vôùi coâng vieä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Duy trì ñöôïc ñoäng cô laøm vieä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ù theå söû duïng nhö tieâu chuaån ñaùnh giaù möùc ñoä hoaøn thaønh coâng vieäc, vaø höôùng daãn ñieàu chænh vieäu thöïc hieä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ù theå taïo ra traùch nhieäm cuûa töøng ngöôøi vaø töøng ngöôøi coù theå töï ñaùnh giaù ñöôïc keát quaû cuûa hoï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ù theå ñaåy maïnh chu trình keá hoaïch - chæ ñaïo - kieåm soaùt moät caùch troâi chaûy…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657600" y="228600"/>
          <a:ext cx="3657600" cy="15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28600"/>
                    <a:ext cx="365760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80880" y="228600"/>
          <a:ext cx="1428840" cy="13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28600"/>
                    <a:ext cx="142884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4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4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9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4:05:33Z</dcterms:created>
  <dc:creator>THANH HOA</dc:creator>
  <dc:description/>
  <dc:language>en-US</dc:language>
  <cp:lastModifiedBy>User</cp:lastModifiedBy>
  <cp:lastPrinted>2003-10-03T09:13:29Z</cp:lastPrinted>
  <dcterms:modified xsi:type="dcterms:W3CDTF">2005-01-26T08:21:27Z</dcterms:modified>
  <cp:revision>64</cp:revision>
  <dc:subject/>
  <dc:title>LAÄP KEÁ HOAÏCH LAØ:</dc:title>
</cp:coreProperties>
</file>