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gif" ContentType="image/gif"/>
  <Override PartName="/ppt/media/image3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456-A10B-432F-A1C6-7A05D55CA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EC8F-C5F7-4C73-97AF-F4711CEB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C5E3-7550-4E60-8B94-0FE2D0F4C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8D8B-9202-43F5-8221-51544E0A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FD51-627F-4A7C-A2FC-59900E31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F11F-C2F1-49DF-8654-C4E0325D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C3EB4-096F-43C0-910F-42180EF1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0E223-6DD7-470B-AE1F-A63C2427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3725D-9085-4683-82CE-52FBE8C6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33EA-60B7-4CDB-AED6-D5C03406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E849-DBBC-4B63-B3C6-C97366C0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8E98-3F56-4C36-9BAB-2674DE10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986D-3583-485A-98A4-1F0BD163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22CE-35AC-4F8B-98E7-104A42B5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E01A-6366-4D18-A816-4FE87B5B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3B5FE-FA21-4DE5-BB9A-8FB7C3CFF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C187-0FDE-4F1E-8EFC-821112A8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BE0-6888-4C33-8DF7-A6AD11EC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4F7F-7AB6-415E-924C-31EE64D6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A54C-BC7A-4146-9B66-FE0495DC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7F0A-589D-49C9-99E5-3A9A0882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E73-A77C-4A37-8CC1-600A1AB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908F-22D3-4A10-A62E-3E8C7BC6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0E0C-5A7D-4B8C-9232-C402DE54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VNI-Helve-Condense"/>
              </a:rPr>
              <a:t>Click to edit the title text format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NI-Helve-Condens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7B7A-A358-479A-9054-1E737C8712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logo1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8001000" y="228600"/>
            <a:ext cx="914400" cy="48420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VNI-Helve-Condense"/>
              </a:rPr>
              <a:t>Click to edit the title text format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AD2F-F68D-4FA9-982A-3B5B62426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3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VCCI 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NICC </a:t>
            </a:r>
            <a:br>
              <a:rPr sz="2000"/>
            </a:b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Vietnam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Japan</a:t>
            </a:r>
            <a:r>
              <a:rPr b="0" lang="en-US" sz="28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300" spc="-1" strike="noStrike">
                <a:solidFill>
                  <a:srgbClr val="ffffff"/>
                </a:solidFill>
                <a:latin typeface="VNI-Helve-Condense"/>
              </a:rPr>
              <a:t>M  T  P</a:t>
            </a:r>
            <a:endParaRPr b="0" lang="en-US" sz="113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Management Training Program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1: Ñieàu haønh thoáng nhaá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09680" y="1833480"/>
          <a:ext cx="8245440" cy="42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833480"/>
                    <a:ext cx="8245440" cy="42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4495680" y="2092320"/>
            <a:ext cx="2819520" cy="3165120"/>
            <a:chOff x="4495680" y="2092320"/>
            <a:chExt cx="2819520" cy="3165120"/>
          </a:xfrm>
        </p:grpSpPr>
        <p:sp>
          <p:nvSpPr>
            <p:cNvPr id="162" name=""/>
            <p:cNvSpPr/>
            <p:nvPr/>
          </p:nvSpPr>
          <p:spPr>
            <a:xfrm>
              <a:off x="4495680" y="2092320"/>
              <a:ext cx="1979280" cy="769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5680" y="2092320"/>
              <a:ext cx="2819520" cy="316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1: Ñieàu haønh thoáng nhaá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xem caùc ngoaïi leä cuûa nguyeân taéc moät laø soá ít tröôøng hôïp raát cuï theå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Thaät tai haïi, neáu: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657600"/>
            <a:ext cx="2133720" cy="18288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NI-Helve-Condense"/>
              </a:rPr>
              <a:t>Ngoaïi le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657600"/>
            <a:ext cx="2133360" cy="18288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NI-Helve-Condense"/>
              </a:rPr>
              <a:t>Thoâng le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4572000"/>
            <a:ext cx="1143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3757680"/>
            <a:ext cx="167616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886200" y="4038120"/>
            <a:ext cx="12193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2: Giôùi haïn kieåm soaù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362320"/>
            <a:ext cx="54864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Kieåm soaùt ñöôï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971800"/>
            <a:ext cx="5486400" cy="260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Khoâng thôø ô vôùi coâng vieäc cuûa 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Taêng khaû naêng nhaän thöùc vai troø cuûa 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Soá löôïng nhaân vieâ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3: Keát hôïp nhaän thöùc vaø vai troø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Tình huoáng “Coâng vieäc môùi” - P.39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Caâu hoûi: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-Condense"/>
              </a:rPr>
              <a:t>1. Nhöõng ñieåm gì caàn caân nhaéc khi giao vieäc cho nhaân vieân?</a:t>
            </a:r>
            <a:endParaRPr b="0" lang="en-US" sz="18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-Condense"/>
              </a:rPr>
              <a:t>2. Taïi sao coâ Shirakawa maát ñi söï haêng haùi.</a:t>
            </a:r>
            <a:endParaRPr b="0" lang="en-US" sz="1800" spc="-1" strike="noStrike">
              <a:solidFill>
                <a:srgbClr val="ffffff"/>
              </a:solidFill>
              <a:latin typeface="VNI-Helve-Conden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3: Keát hôïp nhaän thöùc vaø vai troø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phaân tích coâng vieäc tröôùc khi tìm ngöôøi phuø hôïp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298440" indent="-2984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tin töôûng vaøo khaû naêng cuûa nhaân vieân khi giao vieäc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298440" indent="-2984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cho nhaân vieân caûm nhaän ñöôïc vai troø cuûa hoï trong coâng vieäc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298440" indent="-2984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ñeå nhaân vieân luoân coù ñöôïc nieàm töï haøo: “hoï laø baäc thaày” cuûa coâng vieäc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</p:txBody>
      </p:sp>
      <p:pic>
        <p:nvPicPr>
          <p:cNvPr id="178" name="consulting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752920" cy="3657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0" y="2438280"/>
            <a:ext cx="3657600" cy="2743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4: Söï uûy quyeàn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0" y="3657600"/>
            <a:ext cx="2666880" cy="2362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Theå hieän söï ñoäc laäp cuûa nhaân vieân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274320" indent="-2743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Phaùt huy tính saùng taïo cuûa nhaân vieân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276720"/>
            <a:ext cx="2895840" cy="121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Ñònh höôù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Phaân quyeà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057400"/>
            <a:ext cx="2895840" cy="533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Muïc tieâu coâng vieä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59092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518148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449568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Kyû thuaät uyû thaùc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1828800"/>
            <a:ext cx="449568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Theo doõi/ Kieåm soaù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590920"/>
            <a:ext cx="44960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Kieåm tra thoâng tin phaûn hoà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44960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Thoaû thuaän thôøi haïn hoaøn thaøn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4267080"/>
            <a:ext cx="449568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Xaùc ñònh quyeàn haï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5029200"/>
            <a:ext cx="44960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Xaùc ñònh keát quaû mong muoán (SMA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791320"/>
            <a:ext cx="44960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Giaûi thích taïi sao coâng vieäc quan troï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54100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47084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39466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1082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286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523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CMENO074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895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VNI-Helve-Condense"/>
              </a:rPr>
              <a:t>SMART</a:t>
            </a:r>
            <a:r>
              <a:rPr b="0" lang="en-US" sz="4000" spc="-1" strike="noStrike">
                <a:solidFill>
                  <a:srgbClr val="ccff33"/>
                </a:solidFill>
                <a:latin typeface="VNI-Helve-Condense"/>
              </a:rPr>
              <a:t> trong muïc tieâ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pecific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easurable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ttainable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esult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ime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724280" y="1447920"/>
            <a:ext cx="3581280" cy="5238720"/>
            <a:chOff x="4724280" y="1447920"/>
            <a:chExt cx="3581280" cy="5238720"/>
          </a:xfrm>
        </p:grpSpPr>
        <p:pic>
          <p:nvPicPr>
            <p:cNvPr id="204" name="CLIPB002" descr=""/>
            <p:cNvPicPr/>
            <p:nvPr/>
          </p:nvPicPr>
          <p:blipFill>
            <a:blip r:embed="rId1"/>
            <a:stretch/>
          </p:blipFill>
          <p:spPr>
            <a:xfrm>
              <a:off x="4724280" y="1447920"/>
              <a:ext cx="358128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029200" y="2272320"/>
              <a:ext cx="2689200" cy="255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S…cuï the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M…ño löôøng ñöôï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A…ñaït ñöôï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R…höôùng ñeán keát qua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T…coù thôøi gi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712040" y="472428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NI-Commerce"/>
              </a:rPr>
              <a:t>thôøi gi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04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endParaRPr b="0" lang="en-US" sz="36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971800"/>
            <a:ext cx="2057400" cy="2057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0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nguyeâ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taé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2133720"/>
            <a:ext cx="4114800" cy="685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Ñieàu haønh thoáng nhaá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3200400"/>
            <a:ext cx="4114800" cy="685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Giôùi haïn kieåm soaù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343400"/>
            <a:ext cx="4114800" cy="685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Keát hôïp nhaän thöùc vai tro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5410080"/>
            <a:ext cx="4114800" cy="685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Giao quyeà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95480" y="3581280"/>
            <a:ext cx="7621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83600" y="4170960"/>
            <a:ext cx="786600" cy="496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895480" y="2590560"/>
            <a:ext cx="838440" cy="1523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4200" y="4213080"/>
            <a:ext cx="1029600" cy="1402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2362320"/>
            <a:ext cx="8991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3366"/>
                </a:solidFill>
                <a:latin typeface="Times New Roman"/>
              </a:rPr>
              <a:t>training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14440" y="-360"/>
            <a:ext cx="152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Giao vieäc khoâng phaûi ñoå ñaày xoâ nöôùc maø laø thaép leân ngoïn löûa</a:t>
            </a:r>
            <a:endParaRPr b="0" lang="en-US" sz="2400" spc="-1" strike="noStrike">
              <a:solidFill>
                <a:srgbClr val="ccff33"/>
              </a:solidFill>
              <a:latin typeface="VNI-Helve-Condense"/>
            </a:endParaRPr>
          </a:p>
        </p:txBody>
      </p:sp>
      <p:pic>
        <p:nvPicPr>
          <p:cNvPr id="219" name="Copy%20of%20J007870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895480" cy="2585880"/>
          </a:xfrm>
          <a:prstGeom prst="rect">
            <a:avLst/>
          </a:prstGeom>
          <a:ln w="0">
            <a:noFill/>
          </a:ln>
        </p:spPr>
      </p:pic>
      <p:pic>
        <p:nvPicPr>
          <p:cNvPr id="220" name="AG00355_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4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Baøi 2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NI-Helve"/>
              </a:rPr>
              <a:t>Nguyeân taéc </a:t>
            </a:r>
            <a:endParaRPr b="0" lang="en-US" sz="6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NI-Helve"/>
              </a:rPr>
              <a:t>ñieàu haønh toå chöùc</a:t>
            </a:r>
            <a:endParaRPr b="0" lang="en-US" sz="6000" spc="-1" strike="noStrike">
              <a:solidFill>
                <a:srgbClr val="ffffff"/>
              </a:solidFill>
              <a:latin typeface="VNI-Helve-Conden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Toå chöùc laø gì ?  </a:t>
            </a:r>
            <a:endParaRPr b="0" lang="en-US" sz="3600" spc="-1" strike="noStrike">
              <a:solidFill>
                <a:srgbClr val="ccff33"/>
              </a:solidFill>
              <a:latin typeface="VNI-Helve-Condense"/>
            </a:endParaRPr>
          </a:p>
        </p:txBody>
      </p:sp>
      <p:pic>
        <p:nvPicPr>
          <p:cNvPr id="106" name="bnahead_01" descr=""/>
          <p:cNvPicPr/>
          <p:nvPr/>
        </p:nvPicPr>
        <p:blipFill>
          <a:blip r:embed="rId1"/>
          <a:stretch/>
        </p:blipFill>
        <p:spPr>
          <a:xfrm>
            <a:off x="6400800" y="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6095880" y="1066680"/>
            <a:ext cx="2057400" cy="1143000"/>
            <a:chOff x="6095880" y="1066680"/>
            <a:chExt cx="2057400" cy="1143000"/>
          </a:xfrm>
        </p:grpSpPr>
        <p:sp>
          <p:nvSpPr>
            <p:cNvPr id="108" name=""/>
            <p:cNvSpPr/>
            <p:nvPr/>
          </p:nvSpPr>
          <p:spPr>
            <a:xfrm flipV="1">
              <a:off x="6298200" y="1066680"/>
              <a:ext cx="1416600" cy="1107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1066680"/>
              <a:ext cx="205740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0" name="CMENO005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3838680" cy="332424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2819520" y="3962520"/>
            <a:ext cx="2743200" cy="1523880"/>
            <a:chOff x="2819520" y="3962520"/>
            <a:chExt cx="2743200" cy="1523880"/>
          </a:xfrm>
        </p:grpSpPr>
        <p:sp>
          <p:nvSpPr>
            <p:cNvPr id="112" name=""/>
            <p:cNvSpPr/>
            <p:nvPr/>
          </p:nvSpPr>
          <p:spPr>
            <a:xfrm flipV="1">
              <a:off x="3089160" y="3962520"/>
              <a:ext cx="1888560" cy="147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3962520"/>
              <a:ext cx="2743200" cy="1523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Toå chöùc laø gì ?  </a:t>
            </a:r>
            <a:endParaRPr b="0" lang="en-US" sz="3600" spc="-1" strike="noStrike">
              <a:solidFill>
                <a:srgbClr val="ccff33"/>
              </a:solidFill>
              <a:latin typeface="VNI-Helve-Condense"/>
            </a:endParaRPr>
          </a:p>
        </p:txBody>
      </p:sp>
      <p:pic>
        <p:nvPicPr>
          <p:cNvPr id="115" name="management_training" descr=""/>
          <p:cNvPicPr/>
          <p:nvPr/>
        </p:nvPicPr>
        <p:blipFill>
          <a:blip r:embed="rId1"/>
          <a:stretch/>
        </p:blipFill>
        <p:spPr>
          <a:xfrm>
            <a:off x="2878200" y="1905120"/>
            <a:ext cx="3427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Toå chöùc laø ...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981080"/>
            <a:ext cx="5715000" cy="4191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200400"/>
            <a:ext cx="274320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-Condense"/>
              </a:rPr>
              <a:t>Nhoù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-Condense"/>
              </a:rPr>
              <a:t>coâng vieä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2743200" cy="1828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-Condense"/>
              </a:rPr>
              <a:t>Nhoù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-Condense"/>
              </a:rPr>
              <a:t>con ngöôø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5146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NI-Helve-Condense"/>
              </a:rPr>
              <a:t>Muïc tieâu ch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Toå chöùc laø ...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676520"/>
            <a:ext cx="5715000" cy="4800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1752480"/>
            <a:ext cx="4267080" cy="2590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-Condense"/>
              </a:rPr>
              <a:t>COÂNG VIEÄ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962520"/>
            <a:ext cx="4038840" cy="2438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-Condense"/>
              </a:rPr>
              <a:t>CON NGÖÔØ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886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NI-Helve-Condense"/>
              </a:rPr>
              <a:t>Quaû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981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Hoaïch ñòn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Kieåm 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Toå chöù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91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Laõnh ñaï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Giao tieá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Ñoäng vieâ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343040" y="243828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794000">
            <a:off x="3352320" y="335232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794000">
            <a:off x="3352680" y="548604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2391800">
            <a:off x="5105520" y="33526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2391800">
            <a:off x="5105520" y="548568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343040" y="461016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14840" y="388620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NI-Helve-Condense"/>
              </a:rPr>
              <a:t>ly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609480"/>
            <a:ext cx="808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VNI-Helve-Condense"/>
              </a:rPr>
              <a:t>Neáu khoâng coù nguyeân taéc toå chöùc,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4760" y="990720"/>
            <a:ext cx="8762400" cy="5867280"/>
            <a:chOff x="374760" y="990720"/>
            <a:chExt cx="8762400" cy="5867280"/>
          </a:xfrm>
        </p:grpSpPr>
        <p:pic>
          <p:nvPicPr>
            <p:cNvPr id="141" name="CMEN046" descr=""/>
            <p:cNvPicPr/>
            <p:nvPr/>
          </p:nvPicPr>
          <p:blipFill>
            <a:blip r:embed="rId1"/>
            <a:stretch/>
          </p:blipFill>
          <p:spPr>
            <a:xfrm>
              <a:off x="450720" y="1371600"/>
              <a:ext cx="190476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CMENO018" descr=""/>
            <p:cNvPicPr/>
            <p:nvPr/>
          </p:nvPicPr>
          <p:blipFill>
            <a:blip r:embed="rId2"/>
            <a:stretch/>
          </p:blipFill>
          <p:spPr>
            <a:xfrm>
              <a:off x="3498840" y="1371600"/>
              <a:ext cx="22093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CMENO022" descr=""/>
            <p:cNvPicPr/>
            <p:nvPr/>
          </p:nvPicPr>
          <p:blipFill>
            <a:blip r:embed="rId3"/>
            <a:stretch/>
          </p:blipFill>
          <p:spPr>
            <a:xfrm>
              <a:off x="527040" y="3429000"/>
              <a:ext cx="243792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CMENO040" descr=""/>
            <p:cNvPicPr/>
            <p:nvPr/>
          </p:nvPicPr>
          <p:blipFill>
            <a:blip r:embed="rId4"/>
            <a:stretch/>
          </p:blipFill>
          <p:spPr>
            <a:xfrm>
              <a:off x="6732360" y="990720"/>
              <a:ext cx="194760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CMENO084" descr=""/>
            <p:cNvPicPr/>
            <p:nvPr/>
          </p:nvPicPr>
          <p:blipFill>
            <a:blip r:embed="rId5"/>
            <a:stretch/>
          </p:blipFill>
          <p:spPr>
            <a:xfrm>
              <a:off x="374760" y="5257800"/>
              <a:ext cx="2014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CMENO005" descr=""/>
            <p:cNvPicPr/>
            <p:nvPr/>
          </p:nvPicPr>
          <p:blipFill>
            <a:blip r:embed="rId6"/>
            <a:stretch/>
          </p:blipFill>
          <p:spPr>
            <a:xfrm>
              <a:off x="3803400" y="4800600"/>
              <a:ext cx="207144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CMENO088" descr=""/>
            <p:cNvPicPr/>
            <p:nvPr/>
          </p:nvPicPr>
          <p:blipFill>
            <a:blip r:embed="rId7"/>
            <a:stretch/>
          </p:blipFill>
          <p:spPr>
            <a:xfrm>
              <a:off x="6713280" y="4800600"/>
              <a:ext cx="242388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MENO036" descr=""/>
            <p:cNvPicPr/>
            <p:nvPr/>
          </p:nvPicPr>
          <p:blipFill>
            <a:blip r:embed="rId8"/>
            <a:stretch/>
          </p:blipFill>
          <p:spPr>
            <a:xfrm>
              <a:off x="3803400" y="3048120"/>
              <a:ext cx="1904760" cy="14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CWMNO011" descr=""/>
            <p:cNvPicPr/>
            <p:nvPr/>
          </p:nvPicPr>
          <p:blipFill>
            <a:blip r:embed="rId9"/>
            <a:stretch/>
          </p:blipFill>
          <p:spPr>
            <a:xfrm>
              <a:off x="7003800" y="2523960"/>
              <a:ext cx="1552320" cy="22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1: Ñieàu haønh thoáng nhaá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Thaûo luaän nhoùm tình huoáng p.32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Caâu hoûi: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-Condense"/>
              </a:rPr>
              <a:t>1. A/C nghó gì veà caáu truùc Coâng ty khi oâng Yoneda ñöôïc chæ ñöôïc chæ ñaïo tröïc tieáp töø oâng Tanaka?</a:t>
            </a:r>
            <a:endParaRPr b="0" lang="en-US" sz="18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-Condense"/>
              </a:rPr>
              <a:t>2. Chuyeän gì xaûy ra neáu Oâng Tanaka tieáp tuïc nhö theá? Taïi sao?</a:t>
            </a:r>
            <a:endParaRPr b="0" lang="en-US" sz="1800" spc="-1" strike="noStrike">
              <a:solidFill>
                <a:srgbClr val="ffffff"/>
              </a:solidFill>
              <a:latin typeface="VNI-Helve-Conden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1: Ñieàu haønh thoáng nhaá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1981080"/>
            <a:ext cx="1143000" cy="419112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VNI-Helve-Condense"/>
              </a:rPr>
              <a:t>Thoá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VNI-Helve-Condens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VNI-Helve-Condense"/>
              </a:rPr>
              <a:t>nha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362320"/>
            <a:ext cx="4800600" cy="1143000"/>
          </a:xfrm>
          <a:prstGeom prst="rightArrow">
            <a:avLst>
              <a:gd name="adj1" fmla="val 50000"/>
              <a:gd name="adj2" fmla="val 105000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-Condense"/>
              </a:rPr>
              <a:t>Xaùc ñònh vò trí roõ raø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4191120"/>
            <a:ext cx="4800600" cy="1143000"/>
          </a:xfrm>
          <a:prstGeom prst="rightArrow">
            <a:avLst>
              <a:gd name="adj1" fmla="val 50000"/>
              <a:gd name="adj2" fmla="val 105000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-Condense"/>
              </a:rPr>
              <a:t>Meänh leänh töø 01 caáp treâ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2767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Haõy xaùc ñònh traùch nhieäm, nghóa vu, vai tro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51055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Haõy toân troïng vai troø caáp trung gi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08:27:08Z</dcterms:created>
  <dc:creator>User</dc:creator>
  <dc:description/>
  <dc:language>en-US</dc:language>
  <cp:lastModifiedBy> THAI TUAN CHI</cp:lastModifiedBy>
  <cp:lastPrinted>2003-10-02T04:51:23Z</cp:lastPrinted>
  <dcterms:modified xsi:type="dcterms:W3CDTF">2003-10-14T22:05:42Z</dcterms:modified>
  <cp:revision>51</cp:revision>
  <dc:subject/>
  <dc:title>VCCI    NICC  Vietnam  Japan </dc:title>
</cp:coreProperties>
</file>