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3513-8BC4-489D-93D9-374570776F66}" type="slidenum">
              <a:rPr b="0" lang="vi-V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8928-2275-42F6-AFFA-1B8E031E50C4}" type="slidenum">
              <a:rPr b="0" lang="vi-V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605F-37BE-409A-8D93-CA3BFCA0913B}" type="slidenum">
              <a:rPr b="0" lang="vi-V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jhkugyfuyghjbjmbkjkh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D867-15B7-4F76-868B-AC021557EF68}" type="slidenum">
              <a:rPr b="0" lang="vi-V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FB3E-B6B0-4623-AAB1-D82CC2D570EE}" type="slidenum">
              <a:rPr b="0" lang="vi-V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410-0708-4C4D-88AD-B209DD3B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ACC-0B53-48CD-B9AE-1A123EDB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1CF3-5E48-4671-A634-B0F01D4E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F3A-318D-4F81-8D63-B85B7C9B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6ACF-156A-4F67-BAE5-08C23217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6E4E-1DD5-4693-80C9-31E65CDB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13D2-E50F-4CED-8AB0-636D8285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02DB-B16D-467E-AAE1-A2938DB3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C4A6-F730-42B5-9CBC-E0A70C2C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F622-4B4B-441D-AD1D-EE495341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245B-F940-475C-B3BC-4D552F4B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ED9-90D7-4155-86D9-4CCC46CB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FFEE-8679-445A-8B31-D47693FB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AA0C-2C7E-45BE-AD8C-9EC0D5BC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AD3D-31ED-48C6-9149-13763EAA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67B4-2548-4265-B6A0-2548F6BB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66D0-CD79-4CC1-997A-846709D3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B5ABF1-BFBE-4D0A-8452-A489B467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DE3A2-E7F4-436E-B5B3-9F2E6739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BBCD2-DBCB-4C84-87B5-D5CDD6AE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CAC9B-C42C-404D-8636-B8FA16E8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DC51C-8DD3-4305-96EF-4602EF09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CECE-32F3-4DBC-82D1-7C037678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2293F-0070-47B8-9E85-DDDE49E0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A6B75-98D9-48E6-A6B0-A459EB9A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608A72-528E-47E5-BFB0-8E27DE98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3BBAD-B684-4BEB-8387-BF0AF51C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5D511-BA7F-4865-BF25-D38C607E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D138C-038F-45EA-BA94-7E9570E7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9BA4B-F66E-4EDA-9EBA-7E495ACD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EB764-99D1-4E95-AC99-C3A047B4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C31ED-F6E1-48B4-88E3-31525885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1A1D3-FE0C-4207-B472-D0DB5BEB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C9C-636E-4683-8884-C02E50A3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8C7A6-957F-46C8-A1B1-83875737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4F1CC-3F24-458F-8182-4B37F062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A7094-8938-4CC4-92E3-EA1A985B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6B050-8DCF-490D-B552-011D6663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11CD4-9D52-46C7-B771-09BAD85B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BCA8E-CCAC-44CA-BFA1-412F302F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9604F-413C-4C75-95CB-59EE6CB8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A30B4-5719-46F5-B869-6A967BF4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0E6D0-4A45-4F57-B9BD-9938AEB7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410-5B5D-4356-8879-F7A01EF9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406-BD85-424E-8539-63BBC2FA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A40-3A0E-45B0-BD79-77B671F5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643-1BEB-457C-B635-8E296FA4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B36-A1B4-4CC3-B623-923C2457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7D87-13AB-4E0B-BCE0-01EFE3251839}" type="slidenum">
              <a:rPr b="0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173D-9942-4BC4-9478-A74D0EF35DF0}" type="slidenum">
              <a:rPr b="0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2E16-793E-46F4-B475-A84986DC0620}" type="slidenum">
              <a:rPr b="0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F51F-5E99-4271-A7CB-CF69985AA242}" type="slidenum">
              <a:rPr b="0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792920" cy="15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Look at the picture and tell me What’s crops name I’ll take about???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2" name="Content Placeholder 7" descr="dualeo 4_dfvv.jpg"/>
          <p:cNvPicPr/>
          <p:nvPr/>
        </p:nvPicPr>
        <p:blipFill>
          <a:blip r:embed="rId1"/>
          <a:stretch/>
        </p:blipFill>
        <p:spPr>
          <a:xfrm>
            <a:off x="1979640" y="2322360"/>
            <a:ext cx="5616720" cy="3505320"/>
          </a:xfrm>
          <a:prstGeom prst="rect">
            <a:avLst/>
          </a:prstGeom>
          <a:ln w="0">
            <a:noFill/>
          </a:ln>
        </p:spPr>
      </p:pic>
      <p:sp>
        <p:nvSpPr>
          <p:cNvPr id="223" name="Oval Callout 8"/>
          <p:cNvSpPr/>
          <p:nvPr/>
        </p:nvSpPr>
        <p:spPr>
          <a:xfrm>
            <a:off x="6804000" y="2637000"/>
            <a:ext cx="1224000" cy="1800000"/>
          </a:xfrm>
          <a:prstGeom prst="wedgeEllipseCallout">
            <a:avLst>
              <a:gd name="adj1" fmla="val -108574"/>
              <a:gd name="adj2" fmla="val 52824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??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182240" y="2205000"/>
            <a:ext cx="389412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. The soi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eanning the soi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ke to loosen soi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ly nutrient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Make holes in the plast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3" descr="images (2).jpg"/>
          <p:cNvPicPr/>
          <p:nvPr/>
        </p:nvPicPr>
        <p:blipFill>
          <a:blip r:embed="rId1"/>
          <a:stretch/>
        </p:blipFill>
        <p:spPr>
          <a:xfrm>
            <a:off x="5435640" y="2349360"/>
            <a:ext cx="311148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4000" y="2205000"/>
            <a:ext cx="439236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Times New Roman"/>
              </a:rPr>
              <a:t>2. Preparing the see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Soak the seeds in warm water around 70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C (from 2 to 3 hour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Incubation from 1  to 2 day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3" descr="CAM00356.jpg"/>
          <p:cNvPicPr/>
          <p:nvPr/>
        </p:nvPicPr>
        <p:blipFill>
          <a:blip r:embed="rId1"/>
          <a:stretch/>
        </p:blipFill>
        <p:spPr>
          <a:xfrm>
            <a:off x="5003640" y="2276640"/>
            <a:ext cx="3961080" cy="3240000"/>
          </a:xfrm>
          <a:prstGeom prst="rect">
            <a:avLst/>
          </a:prstGeom>
          <a:ln w="0">
            <a:noFill/>
          </a:ln>
        </p:spPr>
      </p:pic>
      <p:sp>
        <p:nvSpPr>
          <p:cNvPr id="253" name="Title 1"/>
          <p:cNvSpPr/>
          <p:nvPr/>
        </p:nvSpPr>
        <p:spPr>
          <a:xfrm>
            <a:off x="4932360" y="5661000"/>
            <a:ext cx="39607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The seeds after incub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wing the seeds in the plastic bags (seed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6" name="Picture 6" descr="images (3).jpg"/>
          <p:cNvPicPr/>
          <p:nvPr/>
        </p:nvPicPr>
        <p:blipFill>
          <a:blip r:embed="rId1"/>
          <a:stretch/>
        </p:blipFill>
        <p:spPr>
          <a:xfrm>
            <a:off x="2050920" y="3357720"/>
            <a:ext cx="51850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3716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Times New Roman"/>
              </a:rPr>
              <a:t>3. Transpl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9" name="Picture 3" descr="images (4).jpg"/>
          <p:cNvPicPr/>
          <p:nvPr/>
        </p:nvPicPr>
        <p:blipFill>
          <a:blip r:embed="rId1"/>
          <a:stretch/>
        </p:blipFill>
        <p:spPr>
          <a:xfrm>
            <a:off x="2556000" y="2781360"/>
            <a:ext cx="3960720" cy="2566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. Irrigate and supply fertiliz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2" name="Picture 3" descr="dualeo.jpg"/>
          <p:cNvPicPr/>
          <p:nvPr/>
        </p:nvPicPr>
        <p:blipFill>
          <a:blip r:embed="rId1"/>
          <a:stretch/>
        </p:blipFill>
        <p:spPr>
          <a:xfrm>
            <a:off x="1619280" y="2708280"/>
            <a:ext cx="561672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3716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5. Pru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5" name="How to Prune Your Cucumber Plant - YouTube_4.mp4" descr=""/>
          <p:cNvPicPr/>
          <p:nvPr/>
        </p:nvPicPr>
        <p:blipFill>
          <a:blip r:embed="rId1"/>
          <a:stretch/>
        </p:blipFill>
        <p:spPr>
          <a:xfrm>
            <a:off x="971640" y="2286000"/>
            <a:ext cx="7129440" cy="3879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2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640" y="2060280"/>
            <a:ext cx="4896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6. Popular proplems of Cucumb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ucumber beet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ust be controlled because they transmit bacterial wil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Control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Synthetic insecticides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Exclusion with row covers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8" name="Picture 8" descr="C:\Documents and Settings\allarso1\My Documents\HORT 105\Pics\Cucumbers\cuc-beatle.jpg"/>
          <p:cNvPicPr/>
          <p:nvPr/>
        </p:nvPicPr>
        <p:blipFill>
          <a:blip r:embed="rId1"/>
          <a:stretch/>
        </p:blipFill>
        <p:spPr>
          <a:xfrm>
            <a:off x="5477040" y="2017800"/>
            <a:ext cx="31446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55280" y="20178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Downy mildew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Control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- Resistant Cultiva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- Chemical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- Early Detection &amp; Forecas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- Biological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1" name="Picture 3" descr="250px-Falscher_Mehltau.jpg"/>
          <p:cNvPicPr/>
          <p:nvPr/>
        </p:nvPicPr>
        <p:blipFill>
          <a:blip r:embed="rId1"/>
          <a:stretch/>
        </p:blipFill>
        <p:spPr>
          <a:xfrm>
            <a:off x="5724360" y="2276640"/>
            <a:ext cx="301176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ot rot, stem and wil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4" name="Picture 3" descr="upload_4e892760b47b3_113.191.253.23_www_agroatlas_ru___Cucurbitae_Fusarium_spp.jpg"/>
          <p:cNvPicPr/>
          <p:nvPr/>
        </p:nvPicPr>
        <p:blipFill>
          <a:blip r:embed="rId1"/>
          <a:stretch/>
        </p:blipFill>
        <p:spPr>
          <a:xfrm>
            <a:off x="5076720" y="2997360"/>
            <a:ext cx="3095640" cy="2600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upload_4e8927965cbe4_113.191.253.23_www_public_iastate_edu___Melonmelon_html1.gif"/>
          <p:cNvPicPr/>
          <p:nvPr/>
        </p:nvPicPr>
        <p:blipFill>
          <a:blip r:embed="rId2"/>
          <a:stretch/>
        </p:blipFill>
        <p:spPr>
          <a:xfrm>
            <a:off x="1258920" y="2997360"/>
            <a:ext cx="316872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ot rot, stem and wilt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rol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Crop rot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Water and fertilizer supply are optim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Steam soil before transpl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9144000" cy="3243240"/>
          </a:xfrm>
          <a:prstGeom prst="rect">
            <a:avLst/>
          </a:prstGeom>
          <a:solidFill>
            <a:srgbClr val="8588a2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ucumber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ucumis sativus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182600" y="4581000"/>
            <a:ext cx="7772400" cy="15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ương Đông Phươ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õ Công Việ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ạnh Quốc Sơ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V. Harvest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9" name="ClipArt Placeholder 5" descr="Dua_leo.jpg"/>
          <p:cNvPicPr/>
          <p:nvPr/>
        </p:nvPicPr>
        <p:blipFill>
          <a:blip r:embed="rId1"/>
          <a:stretch/>
        </p:blipFill>
        <p:spPr>
          <a:xfrm>
            <a:off x="1544760" y="2017800"/>
            <a:ext cx="3085920" cy="41148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ick cucumbers every d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ze to harvest depends on u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V. Harvest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39640" y="2017800"/>
            <a:ext cx="439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ick before the seeds become ha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ruit that contains immature seed is preferre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83" name="Picture 4" descr="Cách làm kim chi Hàn Quốc bằng dưa leo1.jpg"/>
          <p:cNvPicPr/>
          <p:nvPr/>
        </p:nvPicPr>
        <p:blipFill>
          <a:blip r:embed="rId1"/>
          <a:stretch/>
        </p:blipFill>
        <p:spPr>
          <a:xfrm>
            <a:off x="5148360" y="2276640"/>
            <a:ext cx="3995640" cy="3762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V. Harvest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116000" y="201780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 not allow cucumbers to turn yello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Yellow fruit are overly matur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Often have a bitter taste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86" name="Picture 3" descr="DuaLeo-15.jpg"/>
          <p:cNvPicPr/>
          <p:nvPr/>
        </p:nvPicPr>
        <p:blipFill>
          <a:blip r:embed="rId1"/>
          <a:stretch/>
        </p:blipFill>
        <p:spPr>
          <a:xfrm>
            <a:off x="5364000" y="1989000"/>
            <a:ext cx="3343320" cy="4056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9720" y="65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V. Us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79280" y="227664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. Foo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sh cucumb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9" name="Picture 4" descr="005.JPG"/>
          <p:cNvPicPr/>
          <p:nvPr/>
        </p:nvPicPr>
        <p:blipFill>
          <a:blip r:embed="rId1"/>
          <a:stretch/>
        </p:blipFill>
        <p:spPr>
          <a:xfrm>
            <a:off x="3564000" y="1989000"/>
            <a:ext cx="558000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V. Us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Chilled Cucumber So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2" name="Picture 3" descr="KOREAN Cucumber Soup.JPG"/>
          <p:cNvPicPr/>
          <p:nvPr/>
        </p:nvPicPr>
        <p:blipFill>
          <a:blip r:embed="rId1"/>
          <a:stretch/>
        </p:blipFill>
        <p:spPr>
          <a:xfrm>
            <a:off x="1763640" y="2565360"/>
            <a:ext cx="532944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V. Us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371600" y="1915920"/>
            <a:ext cx="77724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cumber sala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5" name="Picture 3" descr="images (1).jpg"/>
          <p:cNvPicPr/>
          <p:nvPr/>
        </p:nvPicPr>
        <p:blipFill>
          <a:blip r:embed="rId1"/>
          <a:stretch/>
        </p:blipFill>
        <p:spPr>
          <a:xfrm>
            <a:off x="2124000" y="2565360"/>
            <a:ext cx="4969080" cy="352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V. Us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Times New Roman"/>
              </a:rPr>
              <a:t>2. Cosmetic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8" name="Picture 4" descr="tải xuống (2).jpg"/>
          <p:cNvPicPr/>
          <p:nvPr/>
        </p:nvPicPr>
        <p:blipFill>
          <a:blip r:embed="rId1"/>
          <a:stretch/>
        </p:blipFill>
        <p:spPr>
          <a:xfrm>
            <a:off x="5076720" y="476280"/>
            <a:ext cx="3583080" cy="2647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images (3).jpg"/>
          <p:cNvPicPr/>
          <p:nvPr/>
        </p:nvPicPr>
        <p:blipFill>
          <a:blip r:embed="rId2"/>
          <a:stretch/>
        </p:blipFill>
        <p:spPr>
          <a:xfrm>
            <a:off x="611280" y="3357720"/>
            <a:ext cx="3168720" cy="2976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images (5).jpg"/>
          <p:cNvPicPr/>
          <p:nvPr/>
        </p:nvPicPr>
        <p:blipFill>
          <a:blip r:embed="rId3"/>
          <a:stretch/>
        </p:blipFill>
        <p:spPr>
          <a:xfrm>
            <a:off x="5148360" y="3429000"/>
            <a:ext cx="345924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V. Us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2" name="Content Placeholder 5" descr="20120606150750_trangda.jpg"/>
          <p:cNvPicPr/>
          <p:nvPr/>
        </p:nvPicPr>
        <p:blipFill>
          <a:blip r:embed="rId1"/>
          <a:stretch/>
        </p:blipFill>
        <p:spPr>
          <a:xfrm>
            <a:off x="1523880" y="2379600"/>
            <a:ext cx="6096240" cy="4064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tải xuống (1).jpg"/>
          <p:cNvPicPr/>
          <p:nvPr/>
        </p:nvPicPr>
        <p:blipFill>
          <a:blip r:embed="rId2"/>
          <a:stretch/>
        </p:blipFill>
        <p:spPr>
          <a:xfrm>
            <a:off x="3851280" y="2133720"/>
            <a:ext cx="1441440" cy="3382920"/>
          </a:xfrm>
          <a:prstGeom prst="rect">
            <a:avLst/>
          </a:prstGeom>
          <a:ln w="0">
            <a:noFill/>
          </a:ln>
        </p:spPr>
      </p:pic>
      <p:sp>
        <p:nvSpPr>
          <p:cNvPr id="304" name="Title 1"/>
          <p:cNvSpPr/>
          <p:nvPr/>
        </p:nvSpPr>
        <p:spPr>
          <a:xfrm>
            <a:off x="1619280" y="5661000"/>
            <a:ext cx="2881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itle 1"/>
          <p:cNvSpPr/>
          <p:nvPr/>
        </p:nvSpPr>
        <p:spPr>
          <a:xfrm>
            <a:off x="5219640" y="5300640"/>
            <a:ext cx="23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560" y="617040"/>
            <a:ext cx="8692920" cy="21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 end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182600" y="3645000"/>
            <a:ext cx="777240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Thank for your listening!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ntent</a:t>
            </a:r>
            <a:endParaRPr b="0" lang="en-US" sz="8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187280" y="2637000"/>
            <a:ext cx="77724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92b5"/>
                </a:solidFill>
                <a:latin typeface="Georgia"/>
              </a:rPr>
              <a:t>I. Introduction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92b5"/>
                </a:solidFill>
                <a:latin typeface="Georgia"/>
              </a:rPr>
              <a:t>II. Characteristics of cucumber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92b5"/>
                </a:solidFill>
                <a:latin typeface="Georgia"/>
              </a:rPr>
              <a:t>III. Planting technique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92b5"/>
                </a:solidFill>
                <a:latin typeface="Georgia"/>
              </a:rPr>
              <a:t>IV. Harvesting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92b5"/>
                </a:solidFill>
                <a:latin typeface="Georgia"/>
              </a:rPr>
              <a:t>V. Using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50720" y="475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. Introduction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cumbers is member of the genus: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Cucum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iginated in Asia or Afric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First cultivated in India around 3000 years ago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Originated in mountains of northern India 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ere cultivated by the ancient Greek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p:transition spd="slow"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. Characteristics of cucumber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rm season vegetab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o not tolerate fros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ucumbers LOVE water but not subject to flood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p:transition spd="slow"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. Characteristics of cucumber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187280" y="2276280"/>
            <a:ext cx="73058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tem: Climbing plant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Content Placeholder 2"/>
          <p:cNvSpPr/>
          <p:nvPr/>
        </p:nvSpPr>
        <p:spPr>
          <a:xfrm>
            <a:off x="1187280" y="3213000"/>
            <a:ext cx="4824720" cy="29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2a87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endril: the thin stem of a climbing plant that attaches to walls, fences, et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5" descr="100620cu.jpg"/>
          <p:cNvPicPr/>
          <p:nvPr/>
        </p:nvPicPr>
        <p:blipFill>
          <a:blip r:embed="rId1"/>
          <a:stretch/>
        </p:blipFill>
        <p:spPr>
          <a:xfrm>
            <a:off x="5830920" y="3429000"/>
            <a:ext cx="3313080" cy="2990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. Characteristics of cucumber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lowers: Separate male and female flow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5" descr="tải xuống.jpg"/>
          <p:cNvPicPr/>
          <p:nvPr/>
        </p:nvPicPr>
        <p:blipFill>
          <a:blip r:embed="rId1"/>
          <a:stretch/>
        </p:blipFill>
        <p:spPr>
          <a:xfrm>
            <a:off x="1835280" y="2997360"/>
            <a:ext cx="5094000" cy="386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. Characteristics of cucumber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quire bee pollin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3" descr="images.jpg"/>
          <p:cNvPicPr/>
          <p:nvPr/>
        </p:nvPicPr>
        <p:blipFill>
          <a:blip r:embed="rId1"/>
          <a:stretch/>
        </p:blipFill>
        <p:spPr>
          <a:xfrm>
            <a:off x="1979640" y="2852640"/>
            <a:ext cx="5329080" cy="355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. Characteristics of cucumber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00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uit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mooth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Picture 3" descr="images (1).jpg"/>
          <p:cNvPicPr/>
          <p:nvPr/>
        </p:nvPicPr>
        <p:blipFill>
          <a:blip r:embed="rId1"/>
          <a:stretch/>
        </p:blipFill>
        <p:spPr>
          <a:xfrm>
            <a:off x="5076720" y="3141720"/>
            <a:ext cx="2970360" cy="2448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tải xuống (1).jpg"/>
          <p:cNvPicPr/>
          <p:nvPr/>
        </p:nvPicPr>
        <p:blipFill>
          <a:blip r:embed="rId2"/>
          <a:stretch/>
        </p:blipFill>
        <p:spPr>
          <a:xfrm>
            <a:off x="1403280" y="3213000"/>
            <a:ext cx="3043440" cy="2592360"/>
          </a:xfrm>
          <a:prstGeom prst="rect">
            <a:avLst/>
          </a:prstGeom>
          <a:ln w="0">
            <a:noFill/>
          </a:ln>
        </p:spPr>
      </p:pic>
      <p:sp>
        <p:nvSpPr>
          <p:cNvPr id="246" name="Title 1"/>
          <p:cNvSpPr/>
          <p:nvPr/>
        </p:nvSpPr>
        <p:spPr>
          <a:xfrm>
            <a:off x="5867280" y="2276640"/>
            <a:ext cx="243360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8:12:58Z</dcterms:created>
  <dc:creator>Eric J. Menzel</dc:creator>
  <dc:description/>
  <dc:language>en-US</dc:language>
  <cp:lastModifiedBy>SenSoi</cp:lastModifiedBy>
  <dcterms:modified xsi:type="dcterms:W3CDTF">2014-06-12T03:36:22Z</dcterms:modified>
  <cp:revision>91</cp:revision>
  <dc:subject/>
  <dc:title>Cucumber (Cucumis sativus)</dc:title>
</cp:coreProperties>
</file>