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545A-10BC-4F01-A777-8534C563D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1974-08B7-4236-AD00-162904DFB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9BA1-1098-476A-A3C1-209275B39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66AB-1713-4D9F-A6B6-42EE7ED1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3AB0-2D17-40DE-9E06-DB875143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78B9-6D3D-4781-AB9B-26BA07F68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A783-03CB-4A62-8E2E-CB0FA6B0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C90C-65CD-4C56-A67A-A6A52013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CD65-4235-44AF-9373-F0DBEE86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005A-DD2F-41C9-AE97-7C78F8AE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32D8-77FC-40A6-ABF3-0C82E9A7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CB85-9DD7-4D04-94BA-99DE294F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7BE8-46FD-4102-A66A-61533141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38E8-468E-4C1D-8F66-428D8229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4804-48E0-41E5-A1CB-D041F7EF2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79d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efc7ea"/>
          </a:solidFill>
          <a:ln w="9360">
            <a:solidFill>
              <a:srgbClr val="cc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àn cảnh lịch sử ra đời Chỉ th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- Thế giớ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+ Cuối 1944, đầu 1945, CTTG sắp kết thú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+ PX Đức bị tiêu diệt hoàn to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+ PX Nhật lâm vào nguy khố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- Đông Dươ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+ Nhật đảo chính Pháp, độc chiếm Đ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+ HNTVTW mở rộng họp tại Đình Bả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Ra Chỉ thị “Nhật – Pháp bắn nhau và hành động của chúng t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t3.gstatic.com/images?q=tbn:ANd9GcTHdIdU19oVNbiG0gtdLtjklGWYt1eya6-EalJwzpuqx9vBFRBi"/>
          <p:cNvPicPr/>
          <p:nvPr/>
        </p:nvPicPr>
        <p:blipFill>
          <a:blip r:embed="rId1"/>
          <a:stretch/>
        </p:blipFill>
        <p:spPr>
          <a:xfrm>
            <a:off x="136440" y="501480"/>
            <a:ext cx="8550360" cy="52610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1676520" y="59436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Ngày 2/5 binh lính </a:t>
            </a: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Đức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bắt </a:t>
            </a: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đầu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buông vũ khí </a:t>
            </a: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đầu hà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t3.gstatic.com/images?q=tbn:ANd9GcR1Lw_xAgpirGwPdcukpqJ9SmfhNC0n7inoPHNQqRMJ2ZGGrlSBYw"/>
          <p:cNvPicPr/>
          <p:nvPr/>
        </p:nvPicPr>
        <p:blipFill>
          <a:blip r:embed="rId1"/>
          <a:stretch/>
        </p:blipFill>
        <p:spPr>
          <a:xfrm>
            <a:off x="457200" y="231840"/>
            <a:ext cx="8070840" cy="55594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1219320" y="58672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Zhukov trong lễ ký </a:t>
            </a: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đầu hàng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cua </a:t>
            </a: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phát xít Đức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ngày 8-5-19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t1.gstatic.com/images?q=tbn:ANd9GcSCsGnx8bzc2E-A-K3F747PQE6qjBW3S_gRZTdFISp1QDUrluvg"/>
          <p:cNvPicPr/>
          <p:nvPr/>
        </p:nvPicPr>
        <p:blipFill>
          <a:blip r:embed="rId1"/>
          <a:stretch/>
        </p:blipFill>
        <p:spPr>
          <a:xfrm>
            <a:off x="349200" y="393840"/>
            <a:ext cx="8489880" cy="5321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1752480" y="58672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Montgomery và các tướng Xô Viết Zhukov, Solokovsky, Rokossovsky tại cổng Brandenbur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t3.gstatic.com/images?q=tbn:ANd9GcScQ2Tb2rL2tnwHQyDj3CPt-4t1VhlM8S3fJvMPaT-SANllpAjYtg"/>
          <p:cNvPicPr/>
          <p:nvPr/>
        </p:nvPicPr>
        <p:blipFill>
          <a:blip r:embed="rId2"/>
          <a:stretch/>
        </p:blipFill>
        <p:spPr>
          <a:xfrm>
            <a:off x="465120" y="473040"/>
            <a:ext cx="825192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56:11Z</dcterms:created>
  <dc:creator>Anh Tuan</dc:creator>
  <dc:description/>
  <dc:language>en-US</dc:language>
  <cp:lastModifiedBy>MINH NGUYET</cp:lastModifiedBy>
  <dcterms:modified xsi:type="dcterms:W3CDTF">2012-10-29T05:57:12Z</dcterms:modified>
  <cp:revision>8</cp:revision>
  <dc:subject/>
  <dc:title>Hoàn cảnh lịch sử</dc:title>
</cp:coreProperties>
</file>