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423-89E6-4C52-8841-B5F82EAF4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2C63-360C-4D11-840C-ABB0247D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6AD-345D-461D-8D5B-E6691ED1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86F-A5AB-4603-ADD8-201E71F2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53A-F332-48AC-BECE-B8EB3726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BCB-D426-433D-B169-31E6BED2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EC8-CB8F-4746-8183-00E3B485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819-19FD-48C0-BD64-8A1DE2F6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038-DE4E-4551-8238-C6E3C80E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898-6334-4E57-9827-AB4451D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E43-EB4C-4513-BE28-4743030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F46-F66A-4A12-B27B-8F769D3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216-815C-495A-92B5-D0E2EB3A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D33-3165-4904-BFC7-57F54F1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39A-1BE3-46CF-BF6C-2CA36F34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6320" y="76320"/>
            <a:ext cx="8915400" cy="7617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cap="rnd" w="572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cdc"/>
                </a:solidFill>
                <a:latin typeface="Times New Roman"/>
              </a:rPr>
              <a:t>2.1. Hội nghị Trung ương 6 (11/19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iagram 5" descr=""/>
          <p:cNvPicPr/>
          <p:nvPr/>
        </p:nvPicPr>
        <p:blipFill>
          <a:blip r:embed="rId1"/>
          <a:stretch/>
        </p:blipFill>
        <p:spPr>
          <a:xfrm>
            <a:off x="712800" y="1573200"/>
            <a:ext cx="8066160" cy="490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895480" y="10922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. Hoàn cảnh lịch s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670572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954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7"/>
          <p:cNvSpPr/>
          <p:nvPr/>
        </p:nvSpPr>
        <p:spPr>
          <a:xfrm>
            <a:off x="685800" y="2438280"/>
            <a:ext cx="3200400" cy="2057400"/>
          </a:xfrm>
          <a:custGeom>
            <a:avLst/>
            <a:gdLst>
              <a:gd name="textAreaLeft" fmla="*/ 399960 w 3200400"/>
              <a:gd name="textAreaRight" fmla="*/ 2800440 w 320040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. 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Hội ngh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4419720" y="2057400"/>
            <a:ext cx="4190760" cy="1066680"/>
          </a:xfrm>
          <a:prstGeom prst="flowChartAlternateProcess">
            <a:avLst/>
          </a:prstGeom>
          <a:solidFill>
            <a:srgbClr val="d6d6f5"/>
          </a:solidFill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1373"/>
                </a:solidFill>
                <a:latin typeface="Times New Roman"/>
              </a:rPr>
              <a:t>Khẩu hiệu đấu tran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4419720" y="3429000"/>
            <a:ext cx="4190760" cy="1066680"/>
          </a:xfrm>
          <a:prstGeom prst="flowChartAlternateProcess">
            <a:avLst/>
          </a:prstGeom>
          <a:solidFill>
            <a:srgbClr val="fffae7"/>
          </a:solidFill>
          <a:ln w="57240">
            <a:solidFill>
              <a:srgbClr val="00c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800"/>
                </a:solidFill>
                <a:latin typeface="Times New Roman"/>
              </a:rPr>
              <a:t>Lực lượng cách mạ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9"/>
          <p:cNvSpPr/>
          <p:nvPr/>
        </p:nvSpPr>
        <p:spPr>
          <a:xfrm>
            <a:off x="4419720" y="4800600"/>
            <a:ext cx="4190760" cy="1066680"/>
          </a:xfrm>
          <a:prstGeom prst="flowChartAlternateProcess">
            <a:avLst/>
          </a:prstGeom>
          <a:solidFill>
            <a:srgbClr val="fff2b9"/>
          </a:solidFill>
          <a:ln w="57240">
            <a:solidFill>
              <a:srgbClr val="f08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00"/>
                </a:solidFill>
                <a:latin typeface="Times New Roman"/>
              </a:rPr>
              <a:t>Hình thức đấu tran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4419720" y="762120"/>
            <a:ext cx="4190760" cy="1066680"/>
          </a:xfrm>
          <a:prstGeom prst="flowChartAlternateProcess">
            <a:avLst/>
          </a:prstGeom>
          <a:solidFill>
            <a:srgbClr val="ffebeb"/>
          </a:solidFill>
          <a:ln w="57240">
            <a:solidFill>
              <a:srgbClr val="ff1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1373"/>
                </a:solidFill>
                <a:latin typeface="Times New Roman"/>
              </a:rPr>
              <a:t>Nhiệm vụ cách mạ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3"/>
          <p:cNvSpPr txBox="1"/>
          <p:nvPr/>
        </p:nvSpPr>
        <p:spPr>
          <a:xfrm>
            <a:off x="914400" y="838080"/>
            <a:ext cx="7696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- Hoäi nghò quyeát ñònh chuyeån höôùng chæ ñaïo chieán löôïc caùch maïng ôû ÑD: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1371600" y="1981080"/>
            <a:ext cx="17524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+ Nhieäm vuï: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grpSp>
        <p:nvGrpSpPr>
          <p:cNvPr id="60" name="Group 5"/>
          <p:cNvGrpSpPr/>
          <p:nvPr/>
        </p:nvGrpSpPr>
        <p:grpSpPr>
          <a:xfrm>
            <a:off x="3429000" y="1752480"/>
            <a:ext cx="1143000" cy="914400"/>
            <a:chOff x="3429000" y="1752480"/>
            <a:chExt cx="1143000" cy="914400"/>
          </a:xfrm>
        </p:grpSpPr>
        <p:sp>
          <p:nvSpPr>
            <p:cNvPr id="61" name="WordArt 6"/>
            <p:cNvSpPr txBox="1"/>
            <p:nvPr/>
          </p:nvSpPr>
          <p:spPr>
            <a:xfrm>
              <a:off x="3581280" y="2301120"/>
              <a:ext cx="762120" cy="36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VNI-Times"/>
                </a:rPr>
                <a:t>PK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  <a:ea typeface="VNI-Times"/>
              </a:endParaRPr>
            </a:p>
          </p:txBody>
        </p:sp>
        <p:sp>
          <p:nvSpPr>
            <p:cNvPr id="62" name="WordArt 7"/>
            <p:cNvSpPr txBox="1"/>
            <p:nvPr/>
          </p:nvSpPr>
          <p:spPr>
            <a:xfrm>
              <a:off x="3581280" y="1752480"/>
              <a:ext cx="762120" cy="36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VNI-Times"/>
                </a:rPr>
                <a:t>ÑQ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  <a:ea typeface="VNI-Times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3429000" y="21787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WordArt 9"/>
          <p:cNvSpPr txBox="1"/>
          <p:nvPr/>
        </p:nvSpPr>
        <p:spPr>
          <a:xfrm>
            <a:off x="5181480" y="167652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=&gt;(Giaønh ñoäc laäp daân toäc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5181480" y="2209680"/>
            <a:ext cx="3124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=&gt;(tòch thu ruoäng ñaát ÑQ+Vieät gian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1371600" y="365760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+ Taäp hôïp löïc löôïng: 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grpSp>
        <p:nvGrpSpPr>
          <p:cNvPr id="67" name="Group 12"/>
          <p:cNvGrpSpPr/>
          <p:nvPr/>
        </p:nvGrpSpPr>
        <p:grpSpPr>
          <a:xfrm>
            <a:off x="4572000" y="3429000"/>
            <a:ext cx="762120" cy="838080"/>
            <a:chOff x="4572000" y="3429000"/>
            <a:chExt cx="762120" cy="838080"/>
          </a:xfrm>
        </p:grpSpPr>
        <p:sp>
          <p:nvSpPr>
            <p:cNvPr id="68" name="Oval 13"/>
            <p:cNvSpPr/>
            <p:nvPr/>
          </p:nvSpPr>
          <p:spPr>
            <a:xfrm>
              <a:off x="4667040" y="3533760"/>
              <a:ext cx="571680" cy="62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4"/>
            <p:cNvSpPr/>
            <p:nvPr/>
          </p:nvSpPr>
          <p:spPr>
            <a:xfrm>
              <a:off x="4572000" y="3429000"/>
              <a:ext cx="7621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WordArt 15"/>
          <p:cNvSpPr txBox="1"/>
          <p:nvPr/>
        </p:nvSpPr>
        <p:spPr>
          <a:xfrm>
            <a:off x="5486400" y="3657600"/>
            <a:ext cx="236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=&gt; MT TN DT PÑ ÑD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1371600" y="4267080"/>
            <a:ext cx="6705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NI-Times"/>
              </a:rPr>
              <a:t>+ Chuaån bò tieán tôùi voõ trang baïo ñoäng giaønh quyeàn töï do, ñoäc laäp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NI-Times"/>
              <a:ea typeface="VNI-Times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811080" y="5257800"/>
            <a:ext cx="818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78de"/>
                </a:solidFill>
                <a:latin typeface="Times New Roman"/>
              </a:rPr>
              <a:t>HN đánh dấu sự chuyển hướng chỉ đạo chiến lượ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78de"/>
                </a:solidFill>
                <a:latin typeface="Times New Roman"/>
              </a:rPr>
              <a:t>CM của Đảng, đưa CM VN vào giai đoạn trực tiế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78de"/>
                </a:solidFill>
                <a:latin typeface="Times New Roman"/>
              </a:rPr>
              <a:t>giành chính quy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ight Arrow 3"/>
          <p:cNvSpPr/>
          <p:nvPr/>
        </p:nvSpPr>
        <p:spPr>
          <a:xfrm>
            <a:off x="228600" y="5715000"/>
            <a:ext cx="38088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1295280" y="27432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Khẩu hiệu CM thay đổ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4:13:39Z</dcterms:created>
  <dc:creator>hong tam</dc:creator>
  <dc:description/>
  <dc:language>en-US</dc:language>
  <cp:lastModifiedBy>MINH NGUYET</cp:lastModifiedBy>
  <dcterms:modified xsi:type="dcterms:W3CDTF">2012-10-29T04:35:24Z</dcterms:modified>
  <cp:revision>36</cp:revision>
  <dc:subject/>
  <dc:title>PowerPoint Presentation</dc:title>
</cp:coreProperties>
</file>