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EBA0-7FE2-485F-8F64-F5CDC4EEC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7F45-E831-4300-B752-8F8C0847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5BF0-2831-4140-835B-0C253741D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DA73-04B2-4597-B895-A59B0456A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B210-E899-4AF3-A891-AB88F45A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37A4-C438-487D-924B-1590C255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212B-5B90-4EA4-9DE0-278B3662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14A8-EF31-4C48-A625-754BF931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E5A2-1DBF-45E1-9695-A6B0F1AA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CF14-0049-46C4-BC4B-4686CBE9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41A9-77BE-42C7-B1C1-82D29C66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26B5-C6C9-464B-B70C-9FEAF848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6935-A85F-4D9C-A1D3-3005B4E4A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. Hoàn cảnh lịch s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utoShape 17"/>
          <p:cNvSpPr/>
          <p:nvPr/>
        </p:nvSpPr>
        <p:spPr>
          <a:xfrm>
            <a:off x="685800" y="-152280"/>
            <a:ext cx="7772400" cy="1143000"/>
          </a:xfrm>
          <a:prstGeom prst="flowChartDecisi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ội nghị Trung ương 8 (5/194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533520" y="1219320"/>
            <a:ext cx="79246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 Bắc Sơn, KN Nam Kỳ, BB Đô Lương  báo hiệu cuộc khởi nghĩa toàn quốc, bước đầu đấu tranh bằng võ lực của nhân dân V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âu thuẫn giữa Pháp &gt;&lt; Nhật ngày càng sâu sắ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D chịu thống khổ, tinh thần CM lên c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Đ/c Nguyễn Ái Quốc trở về nước, trực tiếp lãnh đạo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3" descr=""/>
          <p:cNvPicPr/>
          <p:nvPr/>
        </p:nvPicPr>
        <p:blipFill>
          <a:blip r:embed="rId1"/>
          <a:stretch/>
        </p:blipFill>
        <p:spPr>
          <a:xfrm>
            <a:off x="689040" y="725400"/>
            <a:ext cx="7772400" cy="6059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628720" y="133200"/>
            <a:ext cx="3886560" cy="571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. Nội dung hội nghị Trung ương 8 (5/194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0560" y="456840"/>
            <a:ext cx="4190760" cy="7621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66ff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imes New Roman"/>
              </a:rPr>
              <a:t>Nhiệm vụ cách mạ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1600200" y="1371600"/>
            <a:ext cx="4800600" cy="914400"/>
            <a:chOff x="1600200" y="1371600"/>
            <a:chExt cx="4800600" cy="914400"/>
          </a:xfrm>
        </p:grpSpPr>
        <p:sp>
          <p:nvSpPr>
            <p:cNvPr id="48" name="WordArt 5"/>
            <p:cNvSpPr txBox="1"/>
            <p:nvPr/>
          </p:nvSpPr>
          <p:spPr>
            <a:xfrm>
              <a:off x="1600200" y="1524240"/>
              <a:ext cx="25146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VNI-Times"/>
                </a:rPr>
                <a:t>+ Khaúng ñònh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NI-Times"/>
                <a:ea typeface="VNI-Times"/>
              </a:endParaRPr>
            </a:p>
          </p:txBody>
        </p:sp>
        <p:grpSp>
          <p:nvGrpSpPr>
            <p:cNvPr id="49" name="Group 6"/>
            <p:cNvGrpSpPr/>
            <p:nvPr/>
          </p:nvGrpSpPr>
          <p:grpSpPr>
            <a:xfrm>
              <a:off x="4343400" y="1371600"/>
              <a:ext cx="2057400" cy="914400"/>
              <a:chOff x="4343400" y="1371600"/>
              <a:chExt cx="2057400" cy="914400"/>
            </a:xfrm>
          </p:grpSpPr>
          <p:grpSp>
            <p:nvGrpSpPr>
              <p:cNvPr id="50" name="Group 7"/>
              <p:cNvGrpSpPr/>
              <p:nvPr/>
            </p:nvGrpSpPr>
            <p:grpSpPr>
              <a:xfrm>
                <a:off x="4343400" y="1371600"/>
                <a:ext cx="2057400" cy="914400"/>
                <a:chOff x="4343400" y="1371600"/>
                <a:chExt cx="2057400" cy="914400"/>
              </a:xfrm>
            </p:grpSpPr>
            <p:sp>
              <p:nvSpPr>
                <p:cNvPr id="51" name="WordArt 8"/>
                <p:cNvSpPr txBox="1"/>
                <p:nvPr/>
              </p:nvSpPr>
              <p:spPr>
                <a:xfrm>
                  <a:off x="4648320" y="1371600"/>
                  <a:ext cx="1295280" cy="3049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VNI-Times"/>
                    </a:rPr>
                    <a:t>ÑQ + TS</a:t>
                  </a:r>
                  <a:endParaRPr b="0" lang="en-US" sz="1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VNI-Times"/>
                    <a:ea typeface="VNI-Times"/>
                  </a:endParaRPr>
                </a:p>
              </p:txBody>
            </p:sp>
            <p:sp>
              <p:nvSpPr>
                <p:cNvPr id="52" name="Line 9"/>
                <p:cNvSpPr/>
                <p:nvPr/>
              </p:nvSpPr>
              <p:spPr>
                <a:xfrm>
                  <a:off x="4343400" y="1828800"/>
                  <a:ext cx="205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WordArt 10"/>
                <p:cNvSpPr txBox="1"/>
                <p:nvPr/>
              </p:nvSpPr>
              <p:spPr>
                <a:xfrm>
                  <a:off x="4648320" y="2057400"/>
                  <a:ext cx="533160" cy="2286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VNI-Times"/>
                    </a:rPr>
                    <a:t>PK</a:t>
                  </a:r>
                  <a:endParaRPr b="0" lang="en-US" sz="1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VNI-Times"/>
                    <a:ea typeface="VNI-Times"/>
                  </a:endParaRPr>
                </a:p>
              </p:txBody>
            </p:sp>
            <p:sp>
              <p:nvSpPr>
                <p:cNvPr id="54" name="Line 11"/>
                <p:cNvSpPr/>
                <p:nvPr/>
              </p:nvSpPr>
              <p:spPr>
                <a:xfrm>
                  <a:off x="5334120" y="2133720"/>
                  <a:ext cx="838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" name="Line 12"/>
              <p:cNvSpPr/>
              <p:nvPr/>
            </p:nvSpPr>
            <p:spPr>
              <a:xfrm>
                <a:off x="5562720" y="19814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Line 13"/>
              <p:cNvSpPr/>
              <p:nvPr/>
            </p:nvSpPr>
            <p:spPr>
              <a:xfrm>
                <a:off x="5791320" y="19814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Rectangle 15"/>
          <p:cNvSpPr/>
          <p:nvPr/>
        </p:nvSpPr>
        <p:spPr>
          <a:xfrm>
            <a:off x="2590920" y="2743200"/>
            <a:ext cx="426708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Lực lượng cách mạ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9"/>
          <p:cNvSpPr/>
          <p:nvPr/>
        </p:nvSpPr>
        <p:spPr>
          <a:xfrm>
            <a:off x="304920" y="8380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20"/>
          <p:cNvSpPr/>
          <p:nvPr/>
        </p:nvSpPr>
        <p:spPr>
          <a:xfrm>
            <a:off x="304920" y="30481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20"/>
          <p:cNvSpPr/>
          <p:nvPr/>
        </p:nvSpPr>
        <p:spPr>
          <a:xfrm>
            <a:off x="304920" y="48006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590920" y="4419720"/>
            <a:ext cx="4190760" cy="761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Times New Roman"/>
              </a:rPr>
              <a:t>Vấn đề quốc gia dân tộc trên bán đảo Đ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1"/>
          <p:cNvSpPr/>
          <p:nvPr/>
        </p:nvSpPr>
        <p:spPr>
          <a:xfrm>
            <a:off x="685800" y="55627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Giải quyết vđ DT trong khuôn khổ từng nước, V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ủ trương thành lập CP VNDCCH, giúp đỡ Lào, C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762120" y="3581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MTVNĐLĐM (19/5/1941), các đoàn thể cứu quố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Content Placeholder 3" descr=""/>
          <p:cNvPicPr/>
          <p:nvPr/>
        </p:nvPicPr>
        <p:blipFill>
          <a:blip r:embed="rId1"/>
          <a:stretch/>
        </p:blipFill>
        <p:spPr>
          <a:xfrm>
            <a:off x="676440" y="841320"/>
            <a:ext cx="7785000" cy="39625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00000"/>
                </a:solidFill>
                <a:latin typeface="Times New Roman"/>
              </a:rPr>
              <a:t>Vấn đề khởi nghĩ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152280" y="5364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- Hoàn chỉnh chuyển hướng chỉ đạo chiến lượ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152280" y="586728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- Hoàn chỉnh đường lối cứu nước, giải phóng dân tộ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304920" y="48769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Ý nghĩa H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8" descr="BacHo3"/>
          <p:cNvPicPr/>
          <p:nvPr/>
        </p:nvPicPr>
        <p:blipFill>
          <a:blip r:embed="rId1"/>
          <a:stretch/>
        </p:blipFill>
        <p:spPr>
          <a:xfrm>
            <a:off x="609480" y="250920"/>
            <a:ext cx="8077320" cy="5769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600200" y="6197760"/>
            <a:ext cx="5562720" cy="58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ác Hồ ở Pắc Pó – Cao Bằ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14:18:08Z</dcterms:created>
  <dc:creator>hong tam</dc:creator>
  <dc:description/>
  <dc:language>en-US</dc:language>
  <cp:lastModifiedBy>MINH NGUYET</cp:lastModifiedBy>
  <dcterms:modified xsi:type="dcterms:W3CDTF">2012-09-07T05:45:57Z</dcterms:modified>
  <cp:revision>38</cp:revision>
  <dc:subject/>
  <dc:title>PowerPoint Presentation</dc:title>
</cp:coreProperties>
</file>