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B75E-0ACB-4789-964A-B0549CB82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0E65-0482-42F6-B4A5-4166077C5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5640-C114-42CB-98DE-0EAD612C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8CD-6E53-4850-97D8-67B9B3C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118-0121-4F0B-8457-F4FD5B22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7C6-ADF9-409B-9DE9-409A144F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D32-C5D8-4B7F-9603-7BB36F8A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AD8-6025-4A9A-BBDA-71E92235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555-AE68-4043-84A8-B19BE29C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922-C45B-4A5A-9C0D-5B3593D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E4A-3B91-45A0-BCA6-8DAFD62D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AFB-6CD2-48F8-A895-81634F6F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A6B-20DE-4AD9-AAD2-5E63E5C6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17A-C24A-44DE-8FA0-257E515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8EF4-94C5-49E0-B250-B7B728C9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cc"/>
            </a:gs>
            <a:gs pos="100000">
              <a:srgbClr val="cc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380880" y="237960"/>
            <a:ext cx="838224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Chiến lược CM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à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TSDQ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ỏ qua giai đoạ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BCN tiến thẳng lê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X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80880" y="1305000"/>
            <a:ext cx="83822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Nhiệm vụ CM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 đánh đổ ĐQ giành ĐL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đánh đổ PK giành RĐ cho dân cà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9"/>
          <p:cNvSpPr/>
          <p:nvPr/>
        </p:nvSpPr>
        <p:spPr>
          <a:xfrm>
            <a:off x="380880" y="2413080"/>
            <a:ext cx="838224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0000"/>
                </a:solidFill>
                <a:latin typeface="Arial"/>
              </a:rPr>
              <a:t>Lực lượng CM</a:t>
            </a: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: giai cấp công nhân và nông dâ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là lực lượng ch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380880" y="3521160"/>
            <a:ext cx="838224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0000"/>
                </a:solidFill>
                <a:latin typeface="Arial"/>
              </a:rPr>
              <a:t>GC lãnh đạo CM</a:t>
            </a: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: GCCN thông qua đội tiên p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là Đảng Cộng s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380880" y="4664160"/>
            <a:ext cx="838224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0000"/>
                </a:solidFill>
                <a:latin typeface="Arial"/>
              </a:rPr>
              <a:t>Phương pháp CM</a:t>
            </a: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: khởi nghĩa võ trang giành chín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quyề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380880" y="5724360"/>
            <a:ext cx="838224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a0000"/>
                </a:solidFill>
                <a:latin typeface="Arial"/>
              </a:rPr>
              <a:t>Đoàn kết quốc tế</a:t>
            </a:r>
            <a:r>
              <a:rPr b="1" lang="sv-SE" sz="2400" spc="-1" strike="noStrike">
                <a:solidFill>
                  <a:srgbClr val="333399"/>
                </a:solidFill>
                <a:latin typeface="Arial"/>
              </a:rPr>
              <a:t>: CMĐD liên minh với nhân dân các nước thuộc địa và GCVS ở chính quốc, đb là gcvs Phá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03:01:20Z</dcterms:created>
  <dc:creator>Anh Tuan</dc:creator>
  <dc:description/>
  <dc:language>en-US</dc:language>
  <cp:lastModifiedBy>Tina Dang</cp:lastModifiedBy>
  <dcterms:modified xsi:type="dcterms:W3CDTF">2011-09-08T06:45:30Z</dcterms:modified>
  <cp:revision>21</cp:revision>
  <dc:subject/>
  <dc:title>Slide 1</dc:title>
</cp:coreProperties>
</file>