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A40-EB24-43F2-9944-6B9D3BF14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7670-0A2C-443B-8AC0-6AD18A77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193-AD1B-4C59-87EC-B9891846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79B-20B0-4346-8A86-2FB3D527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259-E8C9-4B25-86A8-2C3AB360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01D-19C0-49D7-9424-5FF67F3E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6E5-2ACA-4268-9CE8-D3348717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1CE-6D3C-40E6-A992-D3048B7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F83-B3AD-4CEE-AE3F-875C6183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B52-A2E5-4275-A5CC-C6D0D7F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CF3-4505-4F57-8791-184B1A46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A57-FCAB-4BD9-B47B-725C6174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4E0-2245-42E0-A0B4-595E99C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431F-2034-4717-9663-E978A70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611-7C4B-490E-A3D7-A7369C2AA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152280"/>
            <a:ext cx="8534160" cy="990720"/>
          </a:xfrm>
          <a:prstGeom prst="rect">
            <a:avLst/>
          </a:prstGeom>
          <a:solidFill>
            <a:srgbClr val="f5f8e2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2.2. Hội nghị Trung ương 7 (11/19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9"/>
          <p:cNvSpPr/>
          <p:nvPr/>
        </p:nvSpPr>
        <p:spPr>
          <a:xfrm rot="5400000">
            <a:off x="495360" y="5981760"/>
            <a:ext cx="380880" cy="304560"/>
          </a:xfrm>
          <a:prstGeom prst="flowChartExtract">
            <a:avLst/>
          </a:prstGeom>
          <a:solidFill>
            <a:srgbClr val="00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0"/>
          <p:cNvSpPr/>
          <p:nvPr/>
        </p:nvSpPr>
        <p:spPr>
          <a:xfrm>
            <a:off x="1066680" y="546876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ếp tục khẳng định chủ trương chuyển hướ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ỉ đạo chiến lược cách mạ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514600" y="344160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hận định kẻ thù chính là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X Pháp – Nhậ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ấn đề xây dựng LLVT và căn cứ đị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ện toàn BCHTW Đả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90920" y="13716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hật vào ĐD, cấu kết với Pháp cùng cai tr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d ĐD khổ cực, mâu thuẫn kẻ thù lên 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Khởi nghĩa Bắc Sơn 27/9/194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4"/>
          <p:cNvSpPr/>
          <p:nvPr/>
        </p:nvSpPr>
        <p:spPr>
          <a:xfrm>
            <a:off x="0" y="1371600"/>
            <a:ext cx="2700360" cy="1295280"/>
          </a:xfrm>
          <a:prstGeom prst="ellipse">
            <a:avLst/>
          </a:prstGeom>
          <a:solidFill>
            <a:srgbClr val="fffc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oàn cản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ịch s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ectangle 10" descr=""/>
          <p:cNvPicPr/>
          <p:nvPr/>
        </p:nvPicPr>
        <p:blipFill>
          <a:blip r:embed="rId2"/>
          <a:stretch/>
        </p:blipFill>
        <p:spPr>
          <a:xfrm>
            <a:off x="219240" y="3505320"/>
            <a:ext cx="2311200" cy="1347840"/>
          </a:xfrm>
          <a:prstGeom prst="rect">
            <a:avLst/>
          </a:prstGeom>
          <a:ln w="0">
            <a:noFill/>
          </a:ln>
        </p:spPr>
      </p:pic>
      <p:sp>
        <p:nvSpPr>
          <p:cNvPr id="55" name="Down Arrow 11"/>
          <p:cNvSpPr/>
          <p:nvPr/>
        </p:nvSpPr>
        <p:spPr>
          <a:xfrm>
            <a:off x="1312920" y="2819520"/>
            <a:ext cx="363600" cy="68580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17:40Z</dcterms:created>
  <dc:creator>hong tam</dc:creator>
  <dc:description/>
  <dc:language>en-US</dc:language>
  <cp:lastModifiedBy>MINH NGUYET</cp:lastModifiedBy>
  <dcterms:modified xsi:type="dcterms:W3CDTF">2012-06-14T08:12:16Z</dcterms:modified>
  <cp:revision>14</cp:revision>
  <dc:subject/>
  <dc:title>PowerPoint Presentation</dc:title>
</cp:coreProperties>
</file>